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3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F76B-D83F-4A18-8608-5852CB88F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BD73-AB07-41AA-88CB-E6F12CB7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D39C77-5A0C-4234-BB58-9C7FA906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CCCBEB-9A6D-4099-B9EE-3CFEBCE5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29EA01-9C30-4595-9316-8106E90C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CB582D-609F-45BF-B43C-4F6D96BB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69F064-2313-4FAE-AD5B-A35EAEAA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B3EE35-7DFD-48D6-997D-F774A904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A17BCD-8DEC-4A76-B8E3-5F901764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9D8BB7-FE8A-4420-8E3A-3329EA84F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0999EB-7612-4A94-AA82-460002629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272F-A8B1-47F4-B92A-B97B27BED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5740-75C4-485D-895A-4E7B09947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4C2D-6C4B-41B0-A7C5-77A61DB5E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444B-DB4A-4831-8F5E-C3C6D6B1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2189-E424-45C2-9B4D-4059DCD8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AC27-164E-4DAD-A878-454060C3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EFC8-655F-443A-BADD-C3CEC5D9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1899-FFBA-477C-8D1D-56133134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723E-04F5-46E4-9655-822D3510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00C3-897E-4509-AFC1-E911F1E3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5958-F1AB-4609-AFF2-9F22F7C4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AB2F-300C-4B13-9D02-E90E71F3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DE8A-E555-49C7-A46F-EA64DEED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32BFE-D1A1-41B5-8409-8F349E5FC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8025-6A6E-41C8-AE6B-C2CB35C6F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08FC2-D27E-4232-9EAF-39F50C275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69CD9-C3CB-49B3-B128-CAC70DE4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F07F2-D7E7-4798-9B20-0B735F18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3990E-2B25-4F8D-B2CA-BE0A190B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20F12-C06C-40A4-A6E2-F4489192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7CA2-0A92-46D0-82ED-EE0E2FB7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58D4A-09A4-403C-A69D-2F02B237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DBD63-D624-4A4F-B88C-CD764A5A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EF5B4-9BA1-42E6-91E1-0456A4E6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98CF7-0E67-42F5-BCA3-0886DDA9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54E26-29C3-4307-87F5-9BC2EA06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D8CA8-BF08-430C-8EE2-EDE75C1B7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D66AB-3F87-4918-ACEF-1013E9EDC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B67B30-5B1D-4E7E-8853-967F1DE6452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04B8F5-0F5F-4EEC-8D08-79621F3213E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5B9A96-66EE-4305-A289-EB704D2917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C93E-1322-4CCF-926D-CADF9257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EAE382-72F1-4C40-B192-397A28B682C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635C99-83AD-4FB5-9BD2-CFFF4BA6237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4165A1-F2EE-40A2-B2FC-4C6D54FB7F3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ACB6F2-BDD4-49DA-9468-9A31823ED20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7FEB2C-ACA2-4ADD-B5DB-698488605DD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FA0AFD-436E-4489-88E6-4796AE6A208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5D4196-DF33-440E-A231-7C11408280C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C02EC3-4414-4226-A19C-D9D6582BD64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F80451-1432-4F28-8A6A-87A41A97D24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88FFB-67B5-4E87-814D-1864DA7579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507D-D21F-45BD-B322-8F0556B7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9B639-B58C-4775-85E0-FD032A2F4BD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A9A71-2527-4A0E-A265-44F050D7ED4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3056B-5C63-4D72-BE9C-721C21D21AC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FF096-CF72-490B-8BDF-77CBFE3B92F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1FBD9-C46E-4082-8680-82A2896F61B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E6337-104C-4D83-9A76-5B40124C9B9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F3D9F-F20E-40EF-B225-1972F3C2ABF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BC888-B138-471C-AEA6-D97309633EB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96164-7041-44E1-9EAF-126E4290454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E0735-54C1-4C03-8116-FC4455511A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4009-D237-4C8D-BDFC-71548485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2ABC1-F40A-4721-AEB6-4CEE654D51F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3C010C-AB49-4671-9F06-67E0C3A61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15AD59-2A76-47C4-BDF6-C44C6C55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8D442A-66C7-451F-B9D5-719EB5B5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10644B-A232-4EEC-9280-B168B642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D6E0E7-17B5-4E73-BA8F-D61423DA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737692-3EAB-443F-9C3C-8D3E9357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63E5F3-0E00-4B0A-8C1C-0397F1EB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1A76B8-F712-459C-A53D-94B78932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61F5C9-3725-438F-A331-7861C13E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FEA8-7636-43B8-8FF4-208B4BDF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C63617-53B5-4151-9FB1-42DBD116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F09707-3085-4B38-A33A-4E8C861D0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6B04B2-1487-47B6-8FFC-7748C9344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76835-D2D7-4929-90F1-121C762F6D0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6E922-FC88-47CD-86D4-0BCE8C3C126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7DAC7-18FD-4612-8879-F95E1577248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CA9BC-48D9-4EDF-97BB-F449F9B4D2C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3530B-6DF4-44E6-84AE-E4451E38F87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550C2-54EC-47A8-8514-D89CAD9D16D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F9E0F-47D4-4AF8-9BA0-C15D9C677B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C42B-0C4D-4CBA-AA5F-ADC4421C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33DF9-2948-408D-86D8-F8E48F42F06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5333F-5AA0-494D-8CF9-068EE966A2C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C775B-7D8D-4E9D-AE12-3BF609E3026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46059-EBFF-4ABD-AD06-AA78CD3FD6D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B25DC-B2AD-43D9-B30C-132803AE280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53560C-4C15-4217-AA07-6D2E9961C13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2DB8FC-5527-48CB-870D-12548431B5D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E03D45-9764-46B1-A171-5FDD48BF544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6E9518-4556-4DFA-9893-B44B4621A20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6F7B08-DAAF-44BE-9516-CFA642BC3C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FCB7-0995-4E26-831B-9FB591BC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EFB135-D9EE-4D16-BBF1-A5E2DF2BE6E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4943C7-FA71-4189-8189-FB934FB2538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646245-AE84-451B-B75C-2CEB9B9EA33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D72F78-09CF-4E21-A864-B47170D6920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C63194-05FF-4C85-B0B6-CE9BC1D3378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8D7AA5-CAE8-4A1D-B186-88124E23C9E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B28663-9288-4E02-A5C8-E2A3FE3A3E5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3CB29D-6E54-4785-AE5D-AF1E6D364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727E1E-0A1F-4E66-AD59-C0C56C4A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E2BB89-1882-4325-9F33-88CA404B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64B6-44E3-4A56-804C-27944BBC9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DDCB-D8B7-483F-9BF0-88960BDF0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517E-7926-4811-83CE-4AD4D5B54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0" y="0"/>
            <a:ext cx="7221600" cy="4387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ftr" idx="10"/>
          </p:nvPr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Chapt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ldNum" idx="1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C465428-60F6-4DEF-9DAF-5B18AFDE2C0B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165720" y="613728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gt;&gt; C H E C K P O I N 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361a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306360" y="228600"/>
            <a:ext cx="365616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Num" idx="1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34B4C79-E60D-4524-838F-2C0E363E75C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6096240" y="6137280"/>
            <a:ext cx="30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380880" y="304920"/>
            <a:ext cx="344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DECA PR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5" descr="DecaPrepMedal"/>
          <p:cNvPicPr/>
          <p:nvPr/>
        </p:nvPicPr>
        <p:blipFill>
          <a:blip r:embed="rId3"/>
          <a:stretch/>
        </p:blipFill>
        <p:spPr>
          <a:xfrm>
            <a:off x="6934320" y="228600"/>
            <a:ext cx="1761840" cy="17463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 type="ftr" idx="13"/>
          </p:nvPr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13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dt" idx="1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ftr" idx="1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1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4E2A-43FA-449A-801A-2AF15E68C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8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0" y="0"/>
            <a:ext cx="7221600" cy="4387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3"/>
          <p:cNvSpPr/>
          <p:nvPr/>
        </p:nvSpPr>
        <p:spPr>
          <a:xfrm>
            <a:off x="6165720" y="613728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gt;&gt; C H E C K P O I N 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ftr" idx="17"/>
          </p:nvPr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Chapt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ldNum" idx="18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79AEB5C-1B81-4377-ABBE-04B3B7331A0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361a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306360" y="228600"/>
            <a:ext cx="365616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6096240" y="6137280"/>
            <a:ext cx="30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9"/>
          <p:cNvSpPr/>
          <p:nvPr/>
        </p:nvSpPr>
        <p:spPr>
          <a:xfrm>
            <a:off x="380880" y="304920"/>
            <a:ext cx="344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DECA PR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10" descr="DecaPrepMedal"/>
          <p:cNvPicPr/>
          <p:nvPr/>
        </p:nvPicPr>
        <p:blipFill>
          <a:blip r:embed="rId3"/>
          <a:stretch/>
        </p:blipFill>
        <p:spPr>
          <a:xfrm>
            <a:off x="6934320" y="228600"/>
            <a:ext cx="1761840" cy="174636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12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0C7B5C9-0A2C-4618-B612-122B50A3507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3"/>
          <p:cNvSpPr/>
          <p:nvPr/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8C5091B-3E22-4B53-AFA0-F114301B55B3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54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CD96-37D5-46CA-A518-9DCE3A99BD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docid=w_4BTl4U_xlivM&amp;tbnid=mFmrQ4FAGOyrtM:&amp;ved=0CAUQjRw&amp;url=http%3A%2F%2Fwww.floridadiscountcoupons.com%2Fdiscount-ritas.htm&amp;ei=q1ifUYH2PMPz0gH2t4HwDg&amp;bvm=bv.47008514,d.dmQ&amp;psig=AFQjCNF5KXv1vOE-sI7XIxMFGX6ZRAAuRg&amp;ust=1369483813040485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c3gI9ms8Fdc" TargetMode="External"/><Relationship Id="rId2" Type="http://schemas.openxmlformats.org/officeDocument/2006/relationships/hyperlink" Target="http://youtu.be/frXlYeflkt4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3393-D681-4E23-9832-B4DB6C2AB2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b7"/>
                </a:solidFill>
                <a:latin typeface="Arial Black"/>
              </a:rPr>
              <a:t>Promotion Unit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83808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apter 1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ports &amp; Entertainment Pro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apter 1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motional 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815B-97B5-4801-9CE9-ABC9035E6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#2 ~ Public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ubli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</a:t>
            </a:r>
            <a:r>
              <a:rPr b="1" i="1" lang="en-US" sz="2800" spc="-1" strike="noStrike">
                <a:solidFill>
                  <a:srgbClr val="0066ff"/>
                </a:solidFill>
                <a:latin typeface="Arial"/>
              </a:rPr>
              <a:t>unpai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dia att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ther positive or neg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ed on product, service or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Outsi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Busines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spaper Articles, TV News Stori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With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Busines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s Releases, Speeches, Community Involvement through service &amp; do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82AF-8523-4605-B4B5-42D80283C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831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ales promo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incentives offered fo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limited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encourage consumers to buy a pro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ed Time Membership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8 Hour S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a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p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ems with company’s name printed on 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 S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380880" y="304920"/>
            <a:ext cx="838512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#3 ~ Sales Promo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Picture 6" descr="http://www.floridadiscountcoupons.com/images/ritas_bogo_coup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4114800"/>
            <a:ext cx="3429000" cy="1500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C808-53A9-43EE-8A27-F49DD5490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#4 ~ Personal Sell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onal se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in-person, face-to-face communication between a seller and a custo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dor to business bu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es rep to store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ail Clerk to Custo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6" descr=""/>
          <p:cNvPicPr/>
          <p:nvPr/>
        </p:nvPicPr>
        <p:blipFill>
          <a:blip r:embed="rId1"/>
          <a:stretch/>
        </p:blipFill>
        <p:spPr>
          <a:xfrm>
            <a:off x="6553080" y="4637160"/>
            <a:ext cx="2590920" cy="2220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7C61-F69D-4B46-8EA7-F008BE756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#4 ~ Personal Sell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tag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ediate attention to questions/hes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ledgeable Salespers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ers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nstrate product/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s comparisons to similar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personal experi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 questions and close the 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456840" y="2819520"/>
            <a:ext cx="83883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four elements of promo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ert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es Promo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 Se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Picture 3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228600"/>
            <a:ext cx="7856640" cy="2362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06AB-BEDD-4289-9869-02B74322D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 Black"/>
              </a:rPr>
              <a:t>Lesson 10.2</a:t>
            </a:r>
            <a:br>
              <a:rPr sz="2000"/>
            </a:br>
            <a:r>
              <a:rPr b="1" lang="en-US" sz="4000" spc="-1" strike="noStrike">
                <a:solidFill>
                  <a:srgbClr val="990000"/>
                </a:solidFill>
                <a:latin typeface="Arial Black"/>
              </a:rPr>
              <a:t>Advertising and Placement  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and describe the steps involved in developing effective advertis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the use of product plac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DAE2-FDF7-4C80-839E-2D0203FBC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Opening Act ~ Page 26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how much it would cost to watch 10 episodes of your top 6 shows at a cost of $5 ea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storm alternative ways production of TV programming could be fund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ys would be most appealing to TV view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9D1D-A188-4D1C-A605-4D8EC7DE5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VERTIS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ertising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for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nsumers about new products and services and helps consumers make comparisons among alternati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Picture 4" descr=""/>
          <p:cNvPicPr/>
          <p:nvPr/>
        </p:nvPicPr>
        <p:blipFill>
          <a:blip r:embed="rId1"/>
          <a:srcRect l="30470" t="39588" r="44535" b="36462"/>
          <a:stretch/>
        </p:blipFill>
        <p:spPr>
          <a:xfrm>
            <a:off x="6934320" y="5268960"/>
            <a:ext cx="2209680" cy="1589040"/>
          </a:xfrm>
          <a:prstGeom prst="rect">
            <a:avLst/>
          </a:prstGeom>
          <a:ln w="0">
            <a:noFill/>
          </a:ln>
        </p:spPr>
      </p:pic>
      <p:pic>
        <p:nvPicPr>
          <p:cNvPr id="459" name="Rectangle 5" descr=""/>
          <p:cNvPicPr/>
          <p:nvPr/>
        </p:nvPicPr>
        <p:blipFill>
          <a:blip r:embed="rId2"/>
          <a:stretch/>
        </p:blipFill>
        <p:spPr>
          <a:xfrm>
            <a:off x="334800" y="4479840"/>
            <a:ext cx="6731280" cy="2097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ED79-F14B-4083-BC5B-5B878B2BD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Step by Step </a:t>
            </a:r>
            <a:r>
              <a:rPr b="1" lang="en-US" sz="1900" spc="-1" strike="noStrike">
                <a:solidFill>
                  <a:srgbClr val="99ff66"/>
                </a:solidFill>
                <a:latin typeface="Arial Black"/>
              </a:rPr>
              <a:t>(described more in next slides)</a:t>
            </a:r>
            <a:endParaRPr b="1" lang="en-US" sz="19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 advertising requir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32040" indent="-47484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a measurable advertising go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2040" indent="-47484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the advertising budg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2040" indent="-47484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an advertising the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2040" indent="-47484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the advertising med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2040" indent="-47484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the mess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2040" indent="-47484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an advertising schedu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2040" indent="-47484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the effectiveness of the advertis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3663-5BF7-43A6-A717-DC42AA754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1 ~ The Go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.M.A.R.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cific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surable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tainable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listic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we want to accomplish???   With Detail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2 ~ The Budg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ginal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ting the advertising budget by estimating the point at which an additional dollar spent on advertising equals additional prof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FA1A-A664-4FE8-8522-2C162CC1F0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ports &amp; Entertainment Promo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143000" y="396252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33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.1 Promoting Sports &amp; Entertain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033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.2 Advertising &amp; Place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033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.3 Publicity &amp; Sales Promotion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2895480" y="60948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"/>
              </a:rPr>
              <a:t>Chapte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429D-858C-4BE9-B42F-AE953F965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s a percentage of expected sales revenues to the advertising bud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xed sum per un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dvertising budget based on the expected number of units to be s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etitive pa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to maintain the current share of vo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 of vo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aining a similar dollar amount or frequency of advertising as that of competi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2 ~ The Budget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nt of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BA90-790A-46A0-83B5-CDA929C27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533160" y="533160"/>
            <a:ext cx="830556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3 ~ The The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gli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them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logan that conveys the main message of the a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#4 ~ The Me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newspaper, magazines, bags, billboard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adcast/cable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radio, TV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-of-home (billboards, stadium signs, radi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-home (TV, magazin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2EDA-7FBA-4C2C-912F-FE38591D1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761760" y="17521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 Mix selected is primarily based 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advertising budget and target aud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ia strate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oosing the media that will bring the most effective advertising message to the targeted consu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mber of people in the target market expected to receive the message through the chosen me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685800" y="6858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4 ~ The Media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A2AA-1417-4189-92FA-425CFB2B1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ords to be spoken or printed in the advertise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work, Photos, Video added to enhance viewers’ interest and grab their att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ar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advertising loses its effectiveness due to overexposure or poor message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5 ~ The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5C23-B245-464A-9467-AA6D3EA13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761760" y="159984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qu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mber of times the targeted customer is exposed to the medi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ntration sched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ying / relying on a single mediu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minance strate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firm buys the maximum reach and frequency in one medium and purchases additional space in or time on other 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6 ~ The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6B04-8573-43B8-B0B4-5F9E2A41A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228240" y="1752120"/>
            <a:ext cx="8915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 = Cri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ad doesn’t meet our goal, it’s cost &amp; efforts were wast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s shape and improve future advertising strategi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esponse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mber of customers who connect with and act in relation to the 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ected, complied, examined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38088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7~ The Effectiv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7AA1-2572-46A3-B95E-286C24E11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It’s Showtim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Fall TV shows are “pitched” to ad firms before airing. (Spring meeting/present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 Firms buy time slots based on compatibility  of potential viewing audience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ime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largest viewing audiences are watching T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ost expens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ime to advert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ced based on expected audience ra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AD76-2326-443E-BE3C-249A2AFCC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Interactive Advertis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advertising wil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ngage viewe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otivate them to take specific a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ital communications can be used to create 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teractive conne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potential customer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112A-C266-48FE-AABA-5A708CDE7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Interactive Advertis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ntiac – contest to photograph new G6 with phones to enter for a chance to win $1 Millio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d people to look for G6 on the street, visit the dealership, attend the car show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publicity &amp; aware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Medias ran the story/art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t Messaging &amp; Twitter Inter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ourages watching LIVE TV rather than recor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09C4-A036-416D-9975-7D8976C2E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94920" y="2895120"/>
            <a:ext cx="71629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measurable go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budg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t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me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sched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effectiveness (evalu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2"/>
          <p:cNvSpPr/>
          <p:nvPr/>
        </p:nvSpPr>
        <p:spPr>
          <a:xfrm>
            <a:off x="2514600" y="685800"/>
            <a:ext cx="6629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the steps involved in developing effective adverti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2EA5-AEB2-44DF-874D-34783E867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 Black"/>
              </a:rPr>
              <a:t>Lesson 10.1</a:t>
            </a:r>
            <a:br>
              <a:rPr sz="2000"/>
            </a:br>
            <a:r>
              <a:rPr b="1" lang="en-US" sz="4000" spc="-1" strike="noStrike">
                <a:solidFill>
                  <a:srgbClr val="990000"/>
                </a:solidFill>
                <a:latin typeface="Arial Black"/>
              </a:rPr>
              <a:t>Promoting Sports and Entertainment 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7720" y="2819160"/>
            <a:ext cx="80074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the goals of promo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and define four elements of promo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542D-8FC8-4DD0-B484-151C71679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DUCT PLACEMEN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t placement is a fast growing form of sales promotion used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ms (Mov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V sh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 the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 placement can be used to offset the need for traditional advertis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4" descr=""/>
          <p:cNvPicPr/>
          <p:nvPr/>
        </p:nvPicPr>
        <p:blipFill>
          <a:blip r:embed="rId1"/>
          <a:srcRect l="30470" t="39588" r="44535" b="36462"/>
          <a:stretch/>
        </p:blipFill>
        <p:spPr>
          <a:xfrm>
            <a:off x="6629400" y="2895480"/>
            <a:ext cx="2209680" cy="158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BDFB-50C9-49A4-9074-660C6645B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Brainstor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97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x Network ~ Show “24”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Free Episode included onl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3-minute ads by Ford Motor Compan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t beginning and end of show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 Character, Jack Bauer, drives a Ford Expedition and other Fords are seen throughout the sh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other products have you see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fectly placed in Movies, TV or Theat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7E90-2F28-44F9-8603-5C57E1DBD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Who Pay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common ways that product placement deals might be constructed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ee b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rporation will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ay a fe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e film’s producers for prominent product plac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ar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a very expensive product is needed, it may b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ovided for u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the film in exchange for the prominent display of the brand na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ny promotes movie in product advertising in exchange for product placement.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935D-8F4F-42D3-AC51-CE92BC3EF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6840" y="25909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three ways product placement deals are construc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e B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revious Sli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3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30CE-0A84-4BA4-B5AF-18022D7BF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 Black"/>
              </a:rPr>
              <a:t>Lesson 10.3</a:t>
            </a:r>
            <a:br>
              <a:rPr sz="2000"/>
            </a:br>
            <a:r>
              <a:rPr b="1" lang="en-US" sz="4000" spc="-1" strike="noStrike">
                <a:solidFill>
                  <a:srgbClr val="990000"/>
                </a:solidFill>
                <a:latin typeface="Arial Black"/>
              </a:rPr>
              <a:t>Publicity &amp; Sales Promotions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8007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 publicity and explain its role in creating a positive public im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various types of sales promo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F654-32F4-491A-A7AD-8CDAA43E9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UBLIC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hough publicity is free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ssage is controlled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ews 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s that are presenting the messag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a ver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i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romotional tool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have ver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ega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ide eff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Picture 4" descr=""/>
          <p:cNvPicPr/>
          <p:nvPr/>
        </p:nvPicPr>
        <p:blipFill>
          <a:blip r:embed="rId1"/>
          <a:srcRect l="30470" t="39588" r="44535" b="36462"/>
          <a:stretch/>
        </p:blipFill>
        <p:spPr>
          <a:xfrm>
            <a:off x="6934320" y="0"/>
            <a:ext cx="2209680" cy="158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7324-7D15-4D47-BF91-303264260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Goodwil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odw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mers’ positive feelings about the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ity Events, Marathons (Walks, 5K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ipants - Pledge Mo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iness Donations – for public acknowledgm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76E0-331D-44A0-BF14-1504D6968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Damage Contro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blic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erson who is responsible for maintaining relations with the public and news medi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amage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attempt to refute, justify, or downplay negative s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s to focus attention on more positive s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72AB-0B5B-448E-A18D-192082349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Grass-Roots Public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8007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ss-roots eff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an unknown person or event is propelled into the spotlight by fan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ral campa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omotion where a few online mentions turn into a real buzz about a mov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els the movie into a mega hi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stroturf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ing a fake grass-roots effort (forced, fak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3A4B-9756-4D2C-818A-C0CBAE453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Image is Everyth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8007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blic relations (P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rm of promotion that tries to create a favorable public opinion for an individual or organiza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ng the I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relations focus on the future with the intent of creating a positive image of the busin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kesperson: must know the desired image and represent the company message, professional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52C0-C6E0-4C60-AE7D-B3D6E1C08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PURPOSE OF PROMO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cess of making customers aware of a product, service, or ev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Primary Goal = </a:t>
            </a:r>
            <a:r>
              <a:rPr b="1" i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INCREASE S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ning new 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uading customers to be loy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rcRect l="30470" t="39588" r="44535" b="36462"/>
          <a:stretch/>
        </p:blipFill>
        <p:spPr>
          <a:xfrm>
            <a:off x="6705720" y="228600"/>
            <a:ext cx="2209680" cy="158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B53F-4A99-4830-83A0-FA87AE533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hletes &amp; Their Public I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 athletes feel the pressure of being public role models while meeting athletic performance standar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 par performances = disappointing contr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sure can lead to immature, bad decision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they do to keep a positive public image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unity involvement, Charities, etc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(positive-caring, giving)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a Coverage  leads people to believe they are overpaid for their talents.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(Negative – greedy, thoughtles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685800" y="106668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12DB-A7D6-4607-9B9A-6E1E10BD8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685800" y="106668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Picture 6" descr="http://t1.gstatic.com/images?q=tbn:ANd9GcSvG8AbujcaAkqrUajl3WExhGj6f8-Re228i9vSLsmj0BJmQty2"/>
          <p:cNvPicPr/>
          <p:nvPr/>
        </p:nvPicPr>
        <p:blipFill>
          <a:blip r:embed="rId1"/>
          <a:stretch/>
        </p:blipFill>
        <p:spPr>
          <a:xfrm>
            <a:off x="4952880" y="457200"/>
            <a:ext cx="3895920" cy="38955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8" descr="http://missourisportsmag.com/wp-content/uploads/2011/12/big_brothers_big_sisters_logo.jpg"/>
          <p:cNvPicPr/>
          <p:nvPr/>
        </p:nvPicPr>
        <p:blipFill>
          <a:blip r:embed="rId2"/>
          <a:stretch/>
        </p:blipFill>
        <p:spPr>
          <a:xfrm>
            <a:off x="228600" y="4191120"/>
            <a:ext cx="4495680" cy="22860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0" descr="http://ww1.prweb.com/prfiles/2008/12/05/281058/MarchOfDimesLogo.gif"/>
          <p:cNvPicPr/>
          <p:nvPr/>
        </p:nvPicPr>
        <p:blipFill>
          <a:blip r:embed="rId3"/>
          <a:stretch/>
        </p:blipFill>
        <p:spPr>
          <a:xfrm>
            <a:off x="4952880" y="4572000"/>
            <a:ext cx="3990960" cy="19051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2" descr="http://www.infobarrel.com/media/image/9471.jpg"/>
          <p:cNvPicPr/>
          <p:nvPr/>
        </p:nvPicPr>
        <p:blipFill>
          <a:blip r:embed="rId4"/>
          <a:stretch/>
        </p:blipFill>
        <p:spPr>
          <a:xfrm>
            <a:off x="228600" y="457200"/>
            <a:ext cx="4495680" cy="3556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5A18-A771-49F2-82E9-03C7E2C82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228600" y="6854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me Day Imag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rts facilities need to maintain a positive repu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llent service, cleanliness, safe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rts facilities and sports fans need to have a positive image to encourag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isit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attend game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onomically helps area and tea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d reputation: keeps people awa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685800" y="106668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CB00-4BCD-4DDF-8167-01A837067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380520" y="259056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is publicity different from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types of promo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ity is free exposure but not really controlled by the business or person receiving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So it can be negativ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3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9EB1-B367-4FBA-B713-1429E18A0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ALES PROMO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es promotions are marketing efforts that o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mers an additional incentive to bu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imited time motivator to make a purch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ediate positive influence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s reluctant potentia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mers into buye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Picture 4" descr=""/>
          <p:cNvPicPr/>
          <p:nvPr/>
        </p:nvPicPr>
        <p:blipFill>
          <a:blip r:embed="rId1"/>
          <a:srcRect l="30470" t="39588" r="44535" b="36462"/>
          <a:stretch/>
        </p:blipFill>
        <p:spPr>
          <a:xfrm>
            <a:off x="6934320" y="5268960"/>
            <a:ext cx="2209680" cy="158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404C-60DA-4E08-8F9A-25AC41754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66"/>
                </a:solidFill>
                <a:latin typeface="Arial Black"/>
              </a:rPr>
              <a:t>Consumer Sales Promotion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umer sales promo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ed at the final consumer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orary price reductions         (1/2 price ticke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ce-pack deals               (4 tickets + 4 hot dog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pons                                           ( $  or  % of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al gifts                         (posters, rally towe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sts                                            (offer priz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bates                                 (refund part of pri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455F-4988-4044-AC0F-45C255193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Trade Sales Promo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rade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sales pro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ed at members of the distribution channe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de allow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20400" indent="-4068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fer short-term discounts to distributors and retailers for selling or participating in the promotion of a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de con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20400" indent="-4068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l the most, get a re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-of-purchase displ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20400" indent="-4068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lay materials provided to help sell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E756-4DF4-4A55-8943-D339A5054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Employee Sales Promo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7720" y="2209320"/>
            <a:ext cx="8007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sh mo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xtra commission paid to sales persons who sell or push particular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an appliance manufacturer offers a bonus for selling a washer or dryer from a line that has been discontinu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Picture 7" descr="C:\Users\jsundlin\AppData\Local\Microsoft\Windows\Temporary Internet Files\Content.IE5\QHETRDYM\MC900440391[1].png"/>
          <p:cNvPicPr/>
          <p:nvPr/>
        </p:nvPicPr>
        <p:blipFill>
          <a:blip r:embed="rId1"/>
          <a:stretch/>
        </p:blipFill>
        <p:spPr>
          <a:xfrm>
            <a:off x="6400800" y="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8DE5-CC51-451D-89C8-EA53129EE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456840" y="243828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three consumer sales promo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orary price reductions          (1/2 price ticke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ce-pack deals               (4 tickets + 4 hot dog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pons                                           ( $  or  % of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al gifts                         (posters, rally towe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sts                                            (offer priz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bates                                 (refund part of pri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Picture 3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9E7B-9800-4776-A050-2D6F6A875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Promotional Goal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ed goals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ing customers’ u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aining customer loyal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ing a fan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ucating potential custo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coming the hesitation of first-time bu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5" descr="C:\Users\jsundlin\AppData\Local\Microsoft\Windows\Temporary Internet Files\Content.IE5\N2PGMTO6\MC900199897[1].wmf"/>
          <p:cNvPicPr/>
          <p:nvPr/>
        </p:nvPicPr>
        <p:blipFill>
          <a:blip r:embed="rId1"/>
          <a:stretch/>
        </p:blipFill>
        <p:spPr>
          <a:xfrm>
            <a:off x="6553080" y="0"/>
            <a:ext cx="2590920" cy="2671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motional Examp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 pricing / Special pric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y 1 Adult ticket, get child ticket ½ pr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attendance, builds fan ba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-time support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graded tickets, discount pa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es loyalty with current custo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B4B7-ED8C-44BE-A1C9-CB428561C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MOTIONAL ELEME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ur elements of promotion 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ert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es promo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ling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(next 4 slides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Picture 4" descr=""/>
          <p:cNvPicPr/>
          <p:nvPr/>
        </p:nvPicPr>
        <p:blipFill>
          <a:blip r:embed="rId1"/>
          <a:srcRect l="30470" t="39588" r="44535" b="36462"/>
          <a:stretch/>
        </p:blipFill>
        <p:spPr>
          <a:xfrm>
            <a:off x="6629400" y="304920"/>
            <a:ext cx="2209680" cy="158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008E-046B-4CD2-A0D0-E928E95C0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240" y="244440"/>
            <a:ext cx="8613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ff66"/>
                </a:solidFill>
                <a:latin typeface="Arial Black"/>
              </a:rPr>
              <a:t>#1 ~ Advertising</a:t>
            </a:r>
            <a:endParaRPr b="1" lang="en-US" sz="4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dvert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m of communication delivered by a product maker or seller to consu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3096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ive Advertis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ch people’s att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early explain bene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 customers of WHERE they can get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30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ertising can: take many forms, appear in almost any media and reach millions of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7" descr=""/>
          <p:cNvPicPr/>
          <p:nvPr/>
        </p:nvPicPr>
        <p:blipFill>
          <a:blip r:embed="rId1"/>
          <a:stretch/>
        </p:blipFill>
        <p:spPr>
          <a:xfrm>
            <a:off x="5303880" y="228600"/>
            <a:ext cx="3840120" cy="1752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6F96-1F10-4805-82F0-DF0EB4BAD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#1 ~ Advertis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duct pla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roduct integrated into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ot of a television show or a mov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scre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n advert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ruman Show – Commercials during show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vie Trailer -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.youtube.com/watch?v=c3gI9ms8Fd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ake Commercials </a:t>
            </a:r>
            <a:r>
              <a:rPr b="0" lang="en-US" sz="20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http://youtu.be/frXlYeflkt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(9:58-12:0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Picture 6" descr="http://emerging-advertising-media.wikispaces.com/file/view/Movie-product-placement.jpg/101108179/Movie-product-placement.jpg"/>
          <p:cNvPicPr/>
          <p:nvPr/>
        </p:nvPicPr>
        <p:blipFill>
          <a:blip r:embed="rId3"/>
          <a:stretch/>
        </p:blipFill>
        <p:spPr>
          <a:xfrm>
            <a:off x="6705720" y="304920"/>
            <a:ext cx="2171520" cy="2495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1:31:49Z</dcterms:created>
  <dc:creator> </dc:creator>
  <dc:description/>
  <dc:language>en-US</dc:language>
  <cp:lastModifiedBy>jsundlin</cp:lastModifiedBy>
  <dcterms:modified xsi:type="dcterms:W3CDTF">2013-05-24T15:14:05Z</dcterms:modified>
  <cp:revision>730</cp:revision>
  <dc:subject/>
  <dc:title>Chapter 11</dc:title>
</cp:coreProperties>
</file>